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music.wav" ContentType="audio/x-wav"/>
  <Override PartName="/ppt/media/image3.wmf" ContentType="image/x-wmf"/>
  <Override PartName="/ppt/media/image5.wmf" ContentType="image/x-wmf"/>
  <Override PartName="/ppt/media/image6.wmf" ContentType="image/x-wmf"/>
  <Override PartName="/ppt/media/hammer.wav" ContentType="audio/x-wav"/>
  <Override PartName="/ppt/media/image7.wmf" ContentType="image/x-wmf"/>
  <Override PartName="/ppt/media/image8.wmf" ContentType="image/x-wmf"/>
  <Override PartName="/ppt/media/compre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7A6-EE16-43A5-A771-2E0052AC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795-61D7-4496-B8FB-850364EC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F66-FC1F-4CC7-BBE7-5CEFA7E3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C43-A15D-420A-824F-1224A39A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3B65-B033-429B-ABF8-4C18E58E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3C45-5204-4D10-8220-1147A6E6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BCD-786D-4E8A-AFDF-F6F5FC37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4364-F84C-4D5A-AEF6-9039F8EF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5D68-600D-45BB-BF5D-A7F03D84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F76-1A5E-457E-ACF0-7E0BD69C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165-E9B6-4BF6-A0EE-68C5C210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FDD-17B4-42C9-A38E-563D1E2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824-8B59-42B2-9050-055E68AE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F5D-41BC-4EFE-B7C3-C8D581DD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F3DF-343C-46AA-9F31-E5B4465E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4462-BA55-41E9-8898-0D5AD3D0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8B81-BBF8-4BB4-945E-059A03FC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BB2-AE57-4CEA-A52A-DF5DCBA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01E-5D9C-41F8-AFBB-835A87C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4AF-BF56-47EF-977B-AA16361B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20E-80DA-4330-8228-4C118303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BC5-C125-40FB-A233-8232D2B4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437-A15C-4017-A36E-5EA5360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AA6-7F28-4833-9F60-E0B2530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C36B-3CFD-4FC1-85F3-6F1EE2B79E38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FFF-AA73-49C8-A3B7-6A9CA75319EA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ompres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1700280"/>
            <a:ext cx="79786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Hesham Cortoba"/>
              </a:rPr>
              <a:t>الدفع والسحب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708280"/>
            <a:ext cx="752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َحْتاجُ الأَشْياءُ إِلى قُوَّةٍ ما لِتُحَرِّكَه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َقْوُةَّ هِيَ قُوَّةُ السَّحْبِ أَوْ قُوَّةُ الدَّفْعِ الَّتي تُحَرِّكُ الشَّيْءَ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000" y="1413000"/>
            <a:ext cx="77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ما الّذي يُحَرِّكُ الأَشْياءَ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3168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292428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حَرِّكُ قُوَّةُ الدَّفْعِ الشَّيْءَ بَعيداّ عَني، أَمّا قُوَّةُ السَّحْبِ فَتُحَرِّكُهُ بِاتَّجاهِي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89840" y="134136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قوة الدفع وقوة السحب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4437000"/>
            <a:ext cx="4103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411120"/>
            <a:ext cx="435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عِنْدَما أتْرُكُ البَيضَةَ فإنَّها تَسْقُطُ، لأن الْجاذِبِيَّةَ تَسْحَبُهُا إِلى الأَرْضِ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9054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1484280"/>
            <a:ext cx="712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َلْجاذِبِيَّةُ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 هِيَ الْقُوَّةُ الَّتي تَسْحَبُ الأَشْياءَ بِاتِّجاهِ الأَرْضِ. وولجاذبية مجموعة من القوانين وضعها العالم الكبير اسحق نيوتن 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421000"/>
            <a:ext cx="7236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تَخْتَلِفُ حَرَكَةُ الأَشْياءِ بِحَسَبِ مِقْدَارِ سَحْبِها، أَوْ مِقْدارِ دَفْعِها. يَحْتاجُ اَلشَّيْءُ الْخَفيفُ إِلى قُوَّةِ دَفْعٍ صَغِيرةٍ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بَيْنَما يَحْتَاجُ الشَّيْءُ الثَّقيلُ إِلى قُوَّةِ دَفْعٍ أَكْبَرَ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400" y="1052640"/>
            <a:ext cx="687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كَيْفَ تَخْتَلِفُ الْقُوَى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280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98100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قُوَّةُ الدَّفْعِ الْكَبيرَةُ تُحَرِّكُ الشَّيْءَ بِسُرْعَةٍ أَكْبَرَ وَلِمَسافَةٍ أَطْوَلَ مِنْ قُوَّةِ الْدَّفْعِ الصَّغيرَةِ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329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2852640"/>
            <a:ext cx="7740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هَلَ سَبَقَ لك أَنْ حَكَكَتَ أَقْدَامَكَ عَلى الأَرْضِ لتبطئ حَرَكَةَ المزلاجة؟ هَذا هُوَ الاِحْتِكاكُ. اَلاِحْتِكاكُ هُوَ الْقُوَّةُ الَّتي تُبَطِّئُ حَرَكَةَ الأَشْياءِ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3360" y="1052640"/>
            <a:ext cx="236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لاحتكاك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02:12Z</dcterms:modified>
  <cp:revision>51</cp:revision>
  <dc:subject/>
  <dc:title>PowerPoint Presentation</dc:title>
</cp:coreProperties>
</file>